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9DE-6E9C-47D1-97C1-B4A22C3D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C61-7523-4A2E-B2B2-6886BDB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75B5-0480-49A5-8498-5A7A37AE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88658-BED3-41BA-AB34-F34BDCF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B23D6-1E20-4499-873E-6CB477FF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9D606-0AE8-4C0F-8FFB-ED0BF130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86900-40A0-48D9-B68C-0FBD3846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F83B-7F87-4758-AE27-3C0590C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35FD8-76F8-4C80-899E-790F3AD8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6061-B2D7-4649-B498-49E9B019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B756-46B5-46F9-9A5C-C6EF79BB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7F6E9-287A-4B4C-8EB5-CDFC049C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E39-BBE5-4ECC-B4DC-B585CDEA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B5DFC-458E-4961-88C6-76F040DC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5987-2881-461A-9C35-F7B0F61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8C64-D97D-474A-990A-DE4CFB9C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F95B2-1483-4952-9537-EEF88AD3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50260-5694-447E-8BB5-F5B9A712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86FCF-A6BB-4A35-B12A-61CF61A9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0B92-E638-4963-B949-8DC8143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6EAE-437F-42F0-BD19-0A261C13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22DA7-563B-43B2-AF52-9EAAE86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50068-B01B-4DB3-8A76-7DF43382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F79-83A5-4A0F-888B-C5C183B7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A07C-A076-4554-A021-B1635100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6F69D-28BA-4C93-A371-A2316D5B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C1841-92B3-4E85-A876-D8E920E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91286-61E0-40FF-80EC-2CE5880A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1C5ED-2A7C-456D-B774-5935C7D7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62D5D-E336-4882-87EC-E71CE79B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D0248-1C43-4200-ADD4-A32E6415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ECAD6-9853-4AED-9CFB-DC81AEAE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ED349-9D89-4933-B282-09A2794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ED83C-387E-49D2-8445-CC74AB8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BDC-F001-46AD-9253-92D08AE8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27487-4547-4BD7-A639-6DCC5A8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6A960-8C57-4DDC-8B66-11BE47A4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C66B1-D25B-4FE1-991F-AFAB62D1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EEE2B-5522-4D27-BF2C-B8FFCF9A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4A72D-B856-4574-94DF-552DCD6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8F368-6D85-4521-963C-BE2C8140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CEDC0-0AEF-4F5C-B84C-38FD7A7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BDEA-8358-4261-A76D-2410233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DFE70-549E-48F5-A14C-94091A9D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61F8-20AF-4FBB-B7F6-6BAE402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2DB3-E30B-4D85-A907-B083E6FA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4F24-A866-4123-86D3-B39687ED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BDE2D-FF6B-4885-A64C-157E273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FD7BC-74D7-40A6-9168-0861DD80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63C2E-BD1A-4221-A70C-5F5CD66E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C33C5-5580-4483-9212-A4350762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16154-678D-4DA1-A71F-4C42A29B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C1FED-40FE-4F7B-8FB0-73D622A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25DCA-8484-4095-B831-A78AF115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0224C-798D-49D2-8938-572D30EE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C64EB-8006-469C-9F4E-435081F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FCC-4264-4EFC-A2D3-0FC2A4CD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1BE4C-D81B-45B3-ABF4-606FF43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5701E-EC4C-4F9A-A11B-88A9C8A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26989-9610-4E6C-8A7C-6C76399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F10FA-AC9F-462F-AA48-F5A8BE4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5CA37-6ACE-4930-89A8-4FCF63AE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FD6F-793C-45D2-8F7A-4FABCB73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C3559-AA4C-49D9-825B-F0F23846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0554C-0054-400F-BBCA-AE1556AE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D988F-23D5-4447-AE73-B1BB2218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A1A5F-AF6D-4368-8784-5F0BF64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6B9B-FFBA-4EDB-9BCC-E92608DA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E9E8C-5815-420D-83E4-63614286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63C2C-F77C-46DC-A85B-EF32EF38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174D9-F9D9-4519-9129-120922B4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593CF-D020-4CE5-8D75-D43197A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E0E9A-F052-4826-BB01-3B97DDD8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C00D6-342F-48AA-9824-04366A3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36931-A9D4-4677-AFD9-303D5777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8F44-A71C-4719-961A-E328EF90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F0818-2019-4A97-A47B-B8453080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B3B31-52B1-462B-890A-26C75E4B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2B62-8C55-4AC4-9734-A7F58417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38FDC-3859-4C23-A2A5-138E049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21FEC-43C6-416A-B446-1EA37CC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9752F-0AB5-4D50-9B19-D7E20DB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BFDFE-CBFF-439F-89A6-D0071B2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84184-F890-407C-8CD3-F4E2C209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49213-728E-4386-9300-CC3F85F4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10779-A707-4B89-A1C6-9FC8DC9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7184A-E843-490F-BB3E-7EDAEE1C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22E81-2C4B-4882-B93F-3EBB9B47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DED66-06F5-49FA-9A77-B5B4C3EB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F8F5-16D0-464C-90D8-02435C1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D6E5B-CBF0-4079-843A-C5D21C81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7BAF4-8BB1-44A0-96AD-188F2478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5F8BC-F0AB-455A-9D9F-CC03AE2A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9B6A7-7399-4AF7-A4B7-549630E8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1D0E2-4743-470D-9AF9-52F6CDA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AA65A-720C-43D4-8BF3-6068BF6E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8ACB2-0E48-46E8-B60E-0E511CA2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E624F-9E26-4C04-9FD2-18434D2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79284-1417-4B6F-840A-C372AB9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D7BA7-CD7C-4A04-81EA-8F00666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32EC-C6B0-4726-AF16-99BBB7F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AA11C-306D-428B-A654-476F39AD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4DBAE-FA12-447F-BF1D-CB9B7D8E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BB683-B079-41DF-BD2D-25BEFACC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1D55B-98CF-4044-84EA-1F18BD57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2ECD8-8B77-4C81-AB48-BCFF5787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0ED67-352A-4649-BB96-F4CD822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8020D-7955-4FBD-B1CB-D337226C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677AC-8A23-49EE-80C7-1B431321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723AF-EF7D-4045-B890-7BCEEFA9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F65A6-7D7A-4167-9D10-F736DC1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523-913A-4586-9DB7-A009E6CC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2AE6-03AD-4A30-B326-478C31B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B23EB-C48C-4E31-A1E9-1C3A9EE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4419F-10A1-42E8-8B58-C5B8DC42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41516-1648-43EF-83A2-F7908B8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CEC8F-E246-45A8-BB1D-C8A7928E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87869-DC42-4FC9-9132-D6B816D4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CB6FB-6022-4F60-86DF-13B0A48C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659D9-BF1A-457E-BA1D-3512649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E6A78-B317-4A33-B55C-C4826E35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B873E-7924-433B-AE69-570F084D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393B1-D90B-4057-B120-FA6DCE69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1A5B-046E-44C7-9EF4-AA77A2F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376E7D-F259-415E-83B3-6BCD318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EBCFD-4258-4F9F-A319-0AC2899B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B0396-A3F6-4DEB-8CEA-D8CC0FC5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8FDAB-3631-462A-A927-C708A0A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538FB-8CF5-4180-A09C-999EE16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41365-294A-4A18-A64F-20C29FD6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62344D-749E-42FF-BBAF-C11DDD54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2A1CD-C9B6-4458-A3E7-B73B9228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860BA-DE74-45D2-A010-ABEA7717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972A0-DB4E-462D-A8A0-D9CFF435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2B9-DAAF-4227-AF2F-7B34C464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BAA0D-B8BF-4CF3-81DE-F5C8F37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CEFCF-4ECF-4D4B-9285-470E802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CCD6E-1B6D-4B55-9818-C938D228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858C1-68CE-4139-A5F6-DBD55AE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BE7AF-5E10-46A4-A79F-EDA4474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9DDC3-790D-4971-88F7-DA489DA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654D2-2DF2-4444-B78D-08F3752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AF747-72DC-4F78-A691-2535EBB0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04501-609D-4AD1-8D68-B3B40FBF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0538B-C5E9-4BCA-AD2D-C69122D6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79B-BC54-4F92-B024-C75B125B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BE93E7-06EC-4A8F-B2FC-4503DE4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17645-92BA-4DE0-9996-AF58C7DB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8B37E-7CFA-4228-AC4B-81705A5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DFA5A-AFD1-4B84-82BF-7A01925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0F635-F00D-4321-8DE4-E9BF12AF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161EB-5DAA-47C7-9F7C-2CB27E1B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22C652-295A-471F-9DF2-7A6971C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8F3F1-F886-42DA-B639-0B881EC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376DC-DF45-4E74-9F4E-72F26B76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6FBF0-EF94-41B5-B335-DC6335BB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18C0-A6B3-46EF-AF48-C23FC4E5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717D1-9159-4A01-9655-B2610B39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2EAC5-472B-476A-862E-EEFEDC2B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FD0FB-F258-4DF3-B9D9-7DE3774C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EDFDD-B0C8-433B-B818-4134DCC8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A48DC3-D647-42C0-B85D-A64E0B89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DA895-3060-40E9-8E53-83D1195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C035B-0EB9-42AC-8435-1ACA0A6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E0683-8C40-47B6-9317-68902BA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79327-3188-4420-8B6D-FBAE958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EDB61-1123-4A4A-97D9-9268A37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7D6FA-7288-4C71-96A5-81187AD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19C3B-C6D8-4973-A878-9C409D17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BCD5D-1F8E-41F0-8710-6E74BB14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011-CFD2-4AB3-9E91-8441C1B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0AA4-D735-49D5-B046-129162F9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EF4D-7501-4783-98C8-8416DDD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6F0F-21F2-4147-BDE2-886D6E7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72B-0B18-4D1C-9A58-5B661A61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39D2-9376-44F2-AD54-6140799B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24DE-0C7C-48CB-A035-0DC9948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673BC-403D-40AE-BFAA-25110AA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213F-DD51-4AE9-8A07-09E70EC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F821-ADB9-41FF-B617-1F83F18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101B-C375-4D17-B0D8-CFBC7F4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8817-C6A4-4E53-A9DD-78640B5B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76C8-F58E-4C12-917C-5DEBA89B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D148-1B03-45C2-B959-A0808C67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216A-9259-4C20-83F8-EF9D3D39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F93-03FD-4302-B382-B14BDA6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04CC-AE1E-4729-87B1-910822C6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903C-BE56-453B-BBE0-3CE18A73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8305-AC0F-494B-B2E0-FA175279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549D-9CDA-4DC9-8209-AD3AE1B1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56008-73CE-43E0-B394-1A56DD6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D1E89-A67E-4B1C-894D-279D543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03086-8C11-4AA0-A86E-7FF79F9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FDA9-6EF8-4852-B01A-B6778714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BF1A-51B3-4FEF-99F2-5465534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4880-9BA9-4349-9BC0-F90CC215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5DA-6760-4A61-B58F-ADB9C0AF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5EAA-C21C-46D4-BC8C-EDCC7AB1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C416-1473-4722-82C9-6D40746A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83F23-369D-4EE9-850C-D9F38AC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FF77-FD42-4F94-99A0-13F151A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2811-8D52-4BA6-BB5C-CC1E55EE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AE0A-962F-435F-9C28-0087A854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42F5-184F-4CF6-81D2-A6FCF1F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41B04-98A0-4779-BA1A-65C7C0C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79F7-544B-4C42-92E9-AED8278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FF997-25C5-4DC8-912E-625A5E89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AFF-8D91-4C10-B4EB-421F843D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C2C8-F5B3-416A-B8A5-8976896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64E6-9B29-4FE6-926A-B79E0081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7C43-57D6-4F2A-891A-756F37B1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E494D-B20B-4D7B-B442-2868EE06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E1BF-8A20-4095-A1FB-3080ED45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6131-461E-4667-8820-544B2E2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8AD25-9B16-4423-9AA0-3DD9701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32FF7-1B3E-4F2C-B72D-0F04E6DB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21678-5F93-4375-A3F2-F51F0CAA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CDC0-CA33-487F-B2DB-D2F7C04A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690-6B83-4CC8-9329-3F62372E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0087E-6CE9-4417-9808-C764457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AA30-7A28-4C7B-916F-58F0DB6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1937-1B8D-4EF8-8464-8CBA67D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D182A-0125-4E99-81D0-F8D28BE3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A402-C282-4699-A959-AF5373C5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8704-B98D-4FCB-B063-8AAAC3F7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97AC-1F75-4D58-B24F-D8D6DEB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8ADA4-AFF6-4A12-84FF-D0DFB7A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261D-6C22-4CE4-AA66-3221D15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BD95-8953-4698-9231-0B4F103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2BE-96AC-458E-9403-7484ADF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4045-A62F-469C-87F0-635E7031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5C02-435E-48AC-861C-0AF733A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8EA53-86D4-4D72-B251-DA0C821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7A30E-FFD2-46FE-B2DB-2382525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D403-AF9C-4C6A-9D02-31727987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1F99-CA70-43E4-BBDB-08535C22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03E0-BD7A-4A72-AEAA-974E5593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E9231-B358-4D4A-A636-D6315E5F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B1F46-3004-4890-A958-3C5D538B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2F06-F780-4783-B962-7569B1F3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1B17-9EF6-4ECB-BEDD-6F38E645AF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580-C2DD-4AC5-8767-BCFEBE91E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1C6-8FC4-4287-A20F-5C13EBD52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7EF4-0860-454B-9C64-C680B167A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B069-D055-4A8E-95D8-E0E54C39F1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63D1-AB4B-4828-91E9-8102C1746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AD2-866C-4942-BE40-79BAB06ED2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616-BF22-4B5F-AD80-FD09FAB06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825C-BAD7-4648-A5A9-ADE666176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51EE-685C-401C-89EB-16E9A7C82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916-1D06-46C1-A33A-EC7CE5477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122-61C8-48ED-AA96-CB3B70B5A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A66-1EEE-4B90-87BD-32BD994FF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C87B-035A-4F5E-AD6E-4C231D361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B354-8DD8-4AA0-9C95-D97AF68F6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49CF-86AA-4761-8972-333E724FBE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992-2845-4058-B2FA-DB6202B5B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9958-1FFE-4946-B372-BACB47317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DDFC-E286-4F27-9D84-60B3A4E77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A24A-6D97-44BF-9E12-1C6CD38E8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D6A-EAE7-49F0-948E-C09C50B6B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E0F2-DC45-4EA2-8F81-26B7C0CDE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613-4CE1-4AC4-9DF3-7BC2B9A6E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DDD-8711-463D-ABCA-0EA5205BF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9F2-2BCA-4476-B72E-571C34AE6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CEF9-01C6-4011-AC34-FB5FD83454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629F-C411-4348-9D8F-64D85F878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4932-6425-4688-ADDC-6D79FA09F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A9E1-A9F1-4A2A-8BC6-0B529A3CC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DF5-DA4A-43D2-8ABA-ACAA00D967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0026-D3D5-48A7-9B15-302BB3FDEF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311A-48CF-4EF0-9C00-3062DCCE90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EBAD-DCB8-40F8-B4E8-D7DF4AAB1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76CA-2D1C-491A-A117-ED3BC1FA1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BCC5-F03E-458F-AC77-834DBD2FE9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90C-7B57-417B-94B4-C9A39FBD6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AD19-AF8E-49A8-9CF1-C5A62CAA6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7A7F-AC27-4B0D-8170-58750BFEA0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301-E24C-43A9-A26E-35F41A215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038240" y="2990880"/>
            <a:ext cx="70675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3"/>
          <p:cNvGrpSpPr/>
          <p:nvPr/>
        </p:nvGrpSpPr>
        <p:grpSpPr>
          <a:xfrm>
            <a:off x="179280" y="981000"/>
            <a:ext cx="8707680" cy="5313600"/>
            <a:chOff x="179280" y="981000"/>
            <a:chExt cx="8707680" cy="531360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7296120" cy="219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0" descr=""/>
            <p:cNvPicPr/>
            <p:nvPr/>
          </p:nvPicPr>
          <p:blipFill>
            <a:blip r:embed="rId2"/>
            <a:stretch/>
          </p:blipFill>
          <p:spPr>
            <a:xfrm>
              <a:off x="1476360" y="3357720"/>
              <a:ext cx="383868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22531" descr=""/>
            <p:cNvPicPr/>
            <p:nvPr/>
          </p:nvPicPr>
          <p:blipFill>
            <a:blip r:embed="rId3"/>
            <a:stretch/>
          </p:blipFill>
          <p:spPr>
            <a:xfrm>
              <a:off x="5219640" y="3429000"/>
              <a:ext cx="366732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图片 22532" descr=""/>
            <p:cNvPicPr/>
            <p:nvPr/>
          </p:nvPicPr>
          <p:blipFill>
            <a:blip r:embed="rId4"/>
            <a:stretch/>
          </p:blipFill>
          <p:spPr>
            <a:xfrm>
              <a:off x="1403280" y="4941720"/>
              <a:ext cx="4029120" cy="135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3851280" y="344340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6877080" y="3486240"/>
            <a:ext cx="13669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3419640" y="4221000"/>
            <a:ext cx="13665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6948360" y="4264200"/>
            <a:ext cx="1656000" cy="4489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9"/>
          <a:stretch/>
        </p:blipFill>
        <p:spPr>
          <a:xfrm>
            <a:off x="3995640" y="5013360"/>
            <a:ext cx="13669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0"/>
          <a:stretch/>
        </p:blipFill>
        <p:spPr>
          <a:xfrm>
            <a:off x="3132000" y="5748480"/>
            <a:ext cx="1366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7" name="组合 21510"/>
          <p:cNvGrpSpPr/>
          <p:nvPr/>
        </p:nvGrpSpPr>
        <p:grpSpPr>
          <a:xfrm>
            <a:off x="395280" y="1860480"/>
            <a:ext cx="8280360" cy="2863800"/>
            <a:chOff x="395280" y="1860480"/>
            <a:chExt cx="8280360" cy="2863800"/>
          </a:xfrm>
        </p:grpSpPr>
        <p:grpSp>
          <p:nvGrpSpPr>
            <p:cNvPr id="1038" name="组合 21509"/>
            <p:cNvGrpSpPr/>
            <p:nvPr/>
          </p:nvGrpSpPr>
          <p:grpSpPr>
            <a:xfrm>
              <a:off x="395280" y="1860480"/>
              <a:ext cx="7731000" cy="2863800"/>
              <a:chOff x="395280" y="1860480"/>
              <a:chExt cx="7731000" cy="2863800"/>
            </a:xfrm>
          </p:grpSpPr>
          <p:pic>
            <p:nvPicPr>
              <p:cNvPr id="1039" name="图片 21505" descr=""/>
              <p:cNvPicPr/>
              <p:nvPr/>
            </p:nvPicPr>
            <p:blipFill>
              <a:blip r:embed="rId1"/>
              <a:stretch/>
            </p:blipFill>
            <p:spPr>
              <a:xfrm>
                <a:off x="395280" y="1860480"/>
                <a:ext cx="7191360" cy="132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图片 21506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1640" y="2508120"/>
                <a:ext cx="39146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图片 2150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3371760"/>
                <a:ext cx="3114720" cy="1352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2" name="图片 21508" descr=""/>
            <p:cNvPicPr/>
            <p:nvPr/>
          </p:nvPicPr>
          <p:blipFill>
            <a:blip r:embed="rId4"/>
            <a:stretch/>
          </p:blipFill>
          <p:spPr>
            <a:xfrm>
              <a:off x="3751200" y="4086000"/>
              <a:ext cx="4924440" cy="6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2124000" y="263700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5651640" y="2565360"/>
            <a:ext cx="223344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1332000" y="4149720"/>
            <a:ext cx="172728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8"/>
          <a:stretch/>
        </p:blipFill>
        <p:spPr>
          <a:xfrm>
            <a:off x="7416720" y="4149720"/>
            <a:ext cx="1332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9" name="组合 20483"/>
          <p:cNvGrpSpPr/>
          <p:nvPr/>
        </p:nvGrpSpPr>
        <p:grpSpPr>
          <a:xfrm>
            <a:off x="395280" y="836640"/>
            <a:ext cx="6943680" cy="5832360"/>
            <a:chOff x="395280" y="836640"/>
            <a:chExt cx="6943680" cy="5832360"/>
          </a:xfrm>
        </p:grpSpPr>
        <p:pic>
          <p:nvPicPr>
            <p:cNvPr id="1050" name="图片 20481" descr=""/>
            <p:cNvPicPr/>
            <p:nvPr/>
          </p:nvPicPr>
          <p:blipFill>
            <a:blip r:embed="rId1"/>
            <a:stretch/>
          </p:blipFill>
          <p:spPr>
            <a:xfrm>
              <a:off x="395280" y="836640"/>
              <a:ext cx="694368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图片 20482" descr=""/>
            <p:cNvPicPr/>
            <p:nvPr/>
          </p:nvPicPr>
          <p:blipFill>
            <a:blip r:embed="rId2"/>
            <a:stretch/>
          </p:blipFill>
          <p:spPr>
            <a:xfrm>
              <a:off x="971640" y="2182680"/>
              <a:ext cx="4743360" cy="448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1511280" cy="448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3851280" y="304020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3995640" y="378936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2556000" y="453708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3059280" y="530064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8"/>
          <a:stretch/>
        </p:blipFill>
        <p:spPr>
          <a:xfrm>
            <a:off x="3492360" y="6078600"/>
            <a:ext cx="1511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8193" descr=""/>
          <p:cNvPicPr/>
          <p:nvPr/>
        </p:nvPicPr>
        <p:blipFill>
          <a:blip r:embed="rId1"/>
          <a:stretch/>
        </p:blipFill>
        <p:spPr>
          <a:xfrm>
            <a:off x="2409840" y="1523880"/>
            <a:ext cx="4324320" cy="3810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4859280" y="164304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4427640" y="240660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4716360" y="317016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4427640" y="391968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4657680" y="4695840"/>
            <a:ext cx="1728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9217" descr=""/>
          <p:cNvPicPr/>
          <p:nvPr/>
        </p:nvPicPr>
        <p:blipFill>
          <a:blip r:embed="rId1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4284720" y="1657440"/>
            <a:ext cx="115092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115092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4716360" y="319896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4500720" y="3948120"/>
            <a:ext cx="2160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4284720" y="4724280"/>
            <a:ext cx="2160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6" name="组合 10243"/>
          <p:cNvGrpSpPr/>
          <p:nvPr/>
        </p:nvGrpSpPr>
        <p:grpSpPr>
          <a:xfrm>
            <a:off x="611280" y="765000"/>
            <a:ext cx="5495760" cy="5210280"/>
            <a:chOff x="611280" y="765000"/>
            <a:chExt cx="5495760" cy="5210280"/>
          </a:xfrm>
        </p:grpSpPr>
        <p:pic>
          <p:nvPicPr>
            <p:cNvPr id="1077" name="图片 10241" descr=""/>
            <p:cNvPicPr/>
            <p:nvPr/>
          </p:nvPicPr>
          <p:blipFill>
            <a:blip r:embed="rId1"/>
            <a:stretch/>
          </p:blipFill>
          <p:spPr>
            <a:xfrm>
              <a:off x="611280" y="765000"/>
              <a:ext cx="4762440" cy="29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图片 10242" descr=""/>
            <p:cNvPicPr/>
            <p:nvPr/>
          </p:nvPicPr>
          <p:blipFill>
            <a:blip r:embed="rId2"/>
            <a:stretch/>
          </p:blipFill>
          <p:spPr>
            <a:xfrm>
              <a:off x="1116000" y="3860640"/>
              <a:ext cx="4991040" cy="211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3851280" y="149868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3492360" y="229068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3924360" y="302580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6"/>
          <a:stretch/>
        </p:blipFill>
        <p:spPr>
          <a:xfrm>
            <a:off x="4716360" y="388944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7"/>
          <a:stretch/>
        </p:blipFill>
        <p:spPr>
          <a:xfrm>
            <a:off x="4284720" y="4667400"/>
            <a:ext cx="1511280" cy="44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8"/>
          <a:stretch/>
        </p:blipFill>
        <p:spPr>
          <a:xfrm>
            <a:off x="3132000" y="5445000"/>
            <a:ext cx="1511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2289" descr=""/>
          <p:cNvPicPr/>
          <p:nvPr/>
        </p:nvPicPr>
        <p:blipFill>
          <a:blip r:embed="rId1"/>
          <a:stretch/>
        </p:blipFill>
        <p:spPr>
          <a:xfrm>
            <a:off x="2176560" y="2238480"/>
            <a:ext cx="4790880" cy="23810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4572000" y="2435400"/>
            <a:ext cx="1152360" cy="4489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5435640" y="3170160"/>
            <a:ext cx="115236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5292720" y="3948120"/>
            <a:ext cx="1152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3" name="图片 11266" descr=""/>
          <p:cNvPicPr/>
          <p:nvPr/>
        </p:nvPicPr>
        <p:blipFill>
          <a:blip r:embed="rId1"/>
          <a:stretch/>
        </p:blipFill>
        <p:spPr>
          <a:xfrm>
            <a:off x="138240" y="1305000"/>
            <a:ext cx="88675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7:5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